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736-876D-4DD0-8A04-2E8AD5870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5B85-2E86-4626-84F8-6A572BAE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0E75-F73C-4612-A484-B62A078E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4140-4AB8-4D7C-9FDF-AD3961B9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2BE2-BB31-4548-9435-B001E303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27F6-2484-408E-897F-F8A5E299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E14-BD88-43CD-9031-77132D77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A72B-6797-4CBD-BEDA-FF6A04F4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0CAA-4799-4C38-B417-5B3F61F5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2E28-CC23-4F94-9354-FD32E90E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6EC-CC4E-46DF-960B-7AC83A19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F5C-24A1-417D-A408-6504F952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344E-2E2D-49BC-B1D0-E265B8BDCC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038920" cy="13622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50920" y="5410080"/>
            <a:ext cx="503856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elt.oup.com/teachers/englishfile/?cc=global&amp;selLanguage=en" TargetMode="External"/><Relationship Id="rId3" Type="http://schemas.openxmlformats.org/officeDocument/2006/relationships/hyperlink" Target="http://elt.oup.com/teachers/englishfile/?cc=global&amp;selLanguage=en" TargetMode="External"/><Relationship Id="rId4" Type="http://schemas.openxmlformats.org/officeDocument/2006/relationships/hyperlink" Target="http://elt.oup.com/teachers/englishfile/?cc=global&amp;selLanguage=en" TargetMode="External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elt.oup.com/student/englishfile/?cc=global&amp;selLanguage=en&amp;mode=hub" TargetMode="External"/><Relationship Id="rId3" Type="http://schemas.openxmlformats.org/officeDocument/2006/relationships/hyperlink" Target="http://elt.oup.com/student/englishfile/?cc=global&amp;selLanguage=en&amp;mode=hub" TargetMode="External"/><Relationship Id="rId4" Type="http://schemas.openxmlformats.org/officeDocument/2006/relationships/hyperlink" Target="http://elt.oup.com/student/englishfile/?cc=global&amp;selLanguage=en&amp;mode=hub" TargetMode="External"/><Relationship Id="rId5" Type="http://schemas.openxmlformats.org/officeDocument/2006/relationships/hyperlink" Target="http://elt.oup.com/student/englishfile/?cc=global&amp;selLanguage=en&amp;mode=hub" TargetMode="External"/><Relationship Id="rId6" Type="http://schemas.openxmlformats.org/officeDocument/2006/relationships/hyperlink" Target="http://elt.oup.com/student/englishfile/?cc=global&amp;selLanguage=en&amp;mode=hub" TargetMode="External"/><Relationship Id="rId7" Type="http://schemas.openxmlformats.org/officeDocument/2006/relationships/hyperlink" Target="http://elt.oup.com/student/englishfile/?cc=global&amp;selLanguage=en&amp;mode=hub" TargetMode="External"/><Relationship Id="rId8" Type="http://schemas.openxmlformats.org/officeDocument/2006/relationships/hyperlink" Target="http://elt.oup.com/student/englishfile/?cc=global&amp;selLanguage=en&amp;mode=hub" TargetMode="External"/><Relationship Id="rId9" Type="http://schemas.openxmlformats.org/officeDocument/2006/relationships/hyperlink" Target="http://elt.oup.com/student/englishfile/?cc=global&amp;selLanguage=en&amp;mode=hub" TargetMode="External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788000" y="4292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71640" y="4292640"/>
            <a:ext cx="1368720" cy="1368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780000" y="4292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132000" y="2754360"/>
            <a:ext cx="2735280" cy="2187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92144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Coursebooks</a:t>
            </a:r>
            <a:br>
              <a:rPr sz="5400"/>
            </a:b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Digital Supp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771640" y="4292640"/>
            <a:ext cx="1368720" cy="1368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780000" y="4292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4788000" y="4292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2771640" y="4292640"/>
            <a:ext cx="1368720" cy="1368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3780000" y="429264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2565360"/>
            <a:ext cx="8064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lti-ROM has individual cod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Login as part of a class or self-study user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Extra SKILLS practic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Tests (free and to bu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52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tudent’s Book – Multi-ROM Oxfordenglishtesting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tudent’s Book – Multi-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4000" y="1773360"/>
            <a:ext cx="468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nk to Oxfordenglishtest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5545080" cy="3335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932360" y="35002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xfordenglishtesting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32360" y="350028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840720" cy="4114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>
            <a:off x="3995640" y="234936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788000" y="234936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624720" cy="3986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xfordenglishtesting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234936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989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4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3284640"/>
            <a:ext cx="165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lick on “Part” or individual Q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3789360"/>
            <a:ext cx="20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hows student if question was right or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3851280" y="3428640"/>
            <a:ext cx="144144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835280" y="350028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2720" y="4941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Writing: Save &amp; send to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2556000" y="4581360"/>
            <a:ext cx="280800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2060640"/>
            <a:ext cx="76993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Oxford Teachers’ Club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ew English File – Teachers’ 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98100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xford Teachers’ Club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ew English File – Teachers’ 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349360"/>
            <a:ext cx="777384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Best extras competitio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Extra activiti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FR / Portfoli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Can dos / Revision sheet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tudy link resourc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Ss learning record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eacher Link extra ideas &amp; material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nd of lesson cooler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ni phrasebook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ading text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In Word: Edi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11280" y="98100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xford Teachers’ Club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ew English File – Teachers’ 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492280"/>
            <a:ext cx="77724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icture Bank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Flashcards (print / IWB)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rossword Maker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NEF or make your own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Wordlist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Weblinks / Project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istening Script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– In Word: Editable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oze 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626160" cy="3985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1280" y="98100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xford Teachers’ Club - N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96000" y="4797360"/>
            <a:ext cx="244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xford </a:t>
            </a:r>
            <a:r>
              <a:rPr b="0" lang="es-ES_tradnl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eachers</a:t>
            </a:r>
            <a:r>
              <a:rPr b="0" lang="es-ES_tradnl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' Club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licnef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licn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4360" y="2060640"/>
            <a:ext cx="76993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4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ew English File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tudents’ 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4248000" cy="3315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98100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xford Teachers’ Club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ew English File – Students’ 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58920" y="4869000"/>
            <a:ext cx="32418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EF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tudent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ite</a:t>
            </a:r>
            <a:br>
              <a:rPr sz="1200"/>
            </a:b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NEF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tudent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</a:t>
            </a:r>
            <a:r>
              <a:rPr b="0" lang="es-ES_tradnl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Site</a:t>
            </a:r>
            <a:r>
              <a:rPr b="0" lang="es-ES_tradnl" sz="1200" spc="-1" strike="noStrike">
                <a:solidFill>
                  <a:srgbClr val="000099"/>
                </a:solidFill>
                <a:latin typeface="Arial"/>
              </a:rPr>
              <a:t> (via Teacher log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2276640"/>
            <a:ext cx="37036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ow many Ss have used the NEF student s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19640" y="3500280"/>
            <a:ext cx="2948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,000,000+!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ve you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??% of learning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s lost within 24 h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11280" y="98100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Oxford Teachers’ Club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ew English File – Students’ 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76280"/>
            <a:ext cx="784692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am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Anteater/School/Space Game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ramma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Gap fill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ow words work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Gap fill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actical Englis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Correct the mistak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nunciati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Individual sound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ext Builder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25-100% words taken out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ocabulary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– Wordsearch / Crossword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Weblink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dioms and collocation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hrasal Verbs in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2060640"/>
            <a:ext cx="76993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ew English File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est CD-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1280" y="98100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ew English File – Test CD-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84692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Editable Progress tests (Word)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Course test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Editable tapescripts (W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1797120" cy="2530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132000" y="3284640"/>
            <a:ext cx="4321440" cy="25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4360" y="2060640"/>
            <a:ext cx="76993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6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ew English File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iP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11280" y="981000"/>
            <a:ext cx="77724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ew English File – iP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7080" y="1916280"/>
            <a:ext cx="7847280" cy="15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 you use them?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278136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need for the CD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- Listening tapescripts (run at same time as the liste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ocabulary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ighlighting areas in the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Next week: What are you going to use with your 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23520" y="885960"/>
            <a:ext cx="27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24000" y="3141720"/>
            <a:ext cx="1800360" cy="1082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067280" y="3141720"/>
            <a:ext cx="1368360" cy="1068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653080" y="3141720"/>
            <a:ext cx="1871640" cy="1090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7697880" y="3130560"/>
            <a:ext cx="761760" cy="1090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539640" y="3141720"/>
            <a:ext cx="1440000" cy="107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What extra support do the coursebooks off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3284640"/>
            <a:ext cx="777240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o you/your Ss use any of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651640" y="34290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6624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day:</a:t>
            </a:r>
            <a:br>
              <a:rPr sz="3200"/>
            </a:br>
            <a:br>
              <a:rPr sz="18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New English Fil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 - Student’s Book - Multi-ROM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 - Oxfordenglishtesting.com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3 - Oxford Teachers’ Club websit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4 - Students’ websit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5 - Test CD-ROM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6 - iPack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920" y="907560"/>
            <a:ext cx="6624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ew English File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tudent’s Book - Multi-R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472360" cy="4104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tudent’s Book – Multi-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68360" y="2636640"/>
            <a:ext cx="100836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6156360" y="2637000"/>
            <a:ext cx="1224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tudent’s Book – Multi-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2276640"/>
            <a:ext cx="2736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ities on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989000"/>
            <a:ext cx="496872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------ Q------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--------- B---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---- B---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-------- English / C--------- English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--------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--- P-------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------- L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tudent’s Book – Multi-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2276640"/>
            <a:ext cx="27367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ctivities on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1989000"/>
            <a:ext cx="518472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rammar Quizzes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ocabulary Bank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und Bank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actical English / Colloquial English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ctation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am Practic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Workbook Liste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920" y="907560"/>
            <a:ext cx="662472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New English File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Student’s Book - Multi-ROM</a:t>
            </a:r>
            <a:br>
              <a:rPr sz="36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ink to OxfordEnglishtesting.com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2:19:59Z</dcterms:created>
  <dc:creator>CDobson</dc:creator>
  <dc:description/>
  <dc:language>en-US</dc:language>
  <cp:lastModifiedBy>BRoberts</cp:lastModifiedBy>
  <dcterms:modified xsi:type="dcterms:W3CDTF">2012-03-02T10:39:52Z</dcterms:modified>
  <cp:revision>200</cp:revision>
  <dc:subject/>
  <dc:title>Diapositiva 1</dc:title>
</cp:coreProperties>
</file>